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5FD-36D7-4631-B911-F1D95965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081-EBD5-471D-BEA6-CBC1AC7D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A0D-2EF5-4B6D-8532-F3D6AFFB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A5B-59B8-4D27-847C-09A09398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F63-48FE-4C42-8CAE-8E3BEE43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C34-D936-46A6-87F3-903BA1D0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C88-F64B-4519-8970-8AD72039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8F2-7BE3-4B08-8181-7DDF562A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E9A-2D6B-48C1-A69E-6F6E2FF0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7ED-A5AF-45BB-9AF6-29EF442C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547-FDB1-46A0-B15E-6280DE18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658-715D-4BB8-A2B4-C9F52072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85E5-FD13-46D5-9A6D-9647C99B43B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4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inion Ess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 essay read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pattern does this essay u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quantity express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pinion ess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onnect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how support and op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ing Quantity Expres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ats hate water.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Most cats hat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antity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antity expression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quantif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generalization, so that the statement is tr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overgeneraliz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ing quantity expr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ntity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2316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ural count nou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count nou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f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ot 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i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ot o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96) Exercise 2. Avoiding overgeneral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Conn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connectors to clarify the relationship between id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ors can be used to signal that the second idea will support/contrast the first in some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Connectors that show suppor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ive an example that illustrate the id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dd facts or explanations that clarify the id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Connectors that show opposi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98) Exercise 3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98) Exercise 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st word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imary objective is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to persuade people to change belief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many of them do not want to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is kind of essay, we not only give information but also present an argument with the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PROS (supporting ideas)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CONS (opposing idea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an argumentative issue. We should clearly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take our stan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write as if we are trying to persuade an opposing audience to adopt new beliefs or behavio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Opinion essa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an essay which presents the author’s point of view on a particular subject supported by reasons and examples. Th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urpo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to convince the reader on a controversial issu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ok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tory, anecdote, question, surprising f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sis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dy paragrap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orting sentenc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acts, reasons, expla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er-argumen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ef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tate &amp; reinfo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p.89) The Best Medicine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roduction paragraph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ok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ground information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sis state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ody paragraph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pic sentence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son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er-argument? Refutation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clusion paragraph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rning? Prediction?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hetorical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er-argument &amp; Refu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s &amp; Opinions &amp; Interpre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資料庫圖表 3" descr=""/>
          <p:cNvPicPr/>
          <p:nvPr/>
        </p:nvPicPr>
        <p:blipFill>
          <a:blip r:embed="rId1"/>
          <a:stretch/>
        </p:blipFill>
        <p:spPr>
          <a:xfrm>
            <a:off x="847800" y="3206880"/>
            <a:ext cx="72421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s &amp; Opi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riters state their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opin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then back it up with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fac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70c0"/>
                </a:solidFill>
                <a:latin typeface="Calibri"/>
              </a:rPr>
              <a:t>Antibiotics cure infections</a:t>
            </a: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70c0"/>
                </a:solidFill>
                <a:latin typeface="Calibri"/>
              </a:rPr>
              <a:t>Antibiotics are the most important invention of the twentieth centu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ifference btw Fact &amp; Opin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Fa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 truth that is scientifically proven or generally accep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Opin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one point of view among man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a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 statement without extra modifying words.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 sentence with modifying words to show a writer’s viewpoint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rolling ide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91) Distinguish facts and opin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out modifying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nterpreting Facts to Support an Opin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inion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act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terpret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p.91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Opin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The Internet tak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oo much ti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way from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amily lif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Fa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the average adult in the U.S. spend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six hours per week on the Interne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Interpret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hose six hours could be spend doing family activit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such as gardening, helping children with homework, or playing gam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9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interpret the fact to support the opin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字方塊 5"/>
          <p:cNvSpPr/>
          <p:nvPr/>
        </p:nvSpPr>
        <p:spPr>
          <a:xfrm>
            <a:off x="928800" y="1357200"/>
            <a:ext cx="3429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attern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 ide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 ide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(s) + Refutation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字方塊 6"/>
          <p:cNvSpPr/>
          <p:nvPr/>
        </p:nvSpPr>
        <p:spPr>
          <a:xfrm>
            <a:off x="4786200" y="1357200"/>
            <a:ext cx="3429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attern 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(s) + Refutation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 ide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 ide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字方塊 7"/>
          <p:cNvSpPr/>
          <p:nvPr/>
        </p:nvSpPr>
        <p:spPr>
          <a:xfrm>
            <a:off x="2357280" y="4071960"/>
            <a:ext cx="442944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attern 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 idea 1  -----&g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 idea 2  -----&g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 idea 3  -----&g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1:38:23Z</dcterms:created>
  <dc:creator>Windows 使用者</dc:creator>
  <dc:description/>
  <dc:language>en-US</dc:language>
  <cp:lastModifiedBy>Windows 使用者</cp:lastModifiedBy>
  <dcterms:modified xsi:type="dcterms:W3CDTF">2009-05-01T15:06:38Z</dcterms:modified>
  <cp:revision>21</cp:revision>
  <dc:subject/>
  <dc:title>Unit 4. Opinion Essays</dc:title>
</cp:coreProperties>
</file>